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DBE-DE8B-4AFB-A77C-4E8470F1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3D5-A9BE-4BB9-85FF-1098034F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081-43D3-41BD-9FCE-096F35DE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0B4-9ED3-4ACF-94D1-94E7D684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AC5-BA24-4970-A0B5-1244A22C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E94-44A7-4C01-98B5-F30A0548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87A-A69C-4F0B-8C29-72EC39AB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E6E-0157-4180-8D70-FA3BD2A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D66-6B08-4298-B712-F0721251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4E0-36F6-4B6B-BB47-4FE92E4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A4B-E496-4523-B311-863E1F3A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DE3-E700-4D67-8BC1-BD66D90D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584-A6CF-4EAD-9924-C11EF20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0F5-D1FB-4262-82F7-25EB947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540-E831-43BF-A037-33D8E44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6F07-9827-40D7-BA40-C5AD5C518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002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6858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6858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6858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6858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990720"/>
            <a:ext cx="6019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86600" y="10666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362320" y="2286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362320" y="2666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0" y="6324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362320" y="228600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ontento y aburrido!! Yo estoy alta! Mis piernas mucho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590920" y="182880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514600" y="1447920"/>
            <a:ext cx="5257800" cy="3045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286000" y="28195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Cua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2 day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590920" y="32767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590920" y="3886200"/>
            <a:ext cx="6324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743200" y="106668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22328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6" descr="Emily.jpg"/>
          <p:cNvPicPr/>
          <p:nvPr/>
        </p:nvPicPr>
        <p:blipFill>
          <a:blip r:embed="rId1"/>
          <a:stretch/>
        </p:blipFill>
        <p:spPr>
          <a:xfrm>
            <a:off x="1295280" y="4780080"/>
            <a:ext cx="685800" cy="63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Angera.jpg"/>
          <p:cNvPicPr/>
          <p:nvPr/>
        </p:nvPicPr>
        <p:blipFill>
          <a:blip r:embed="rId2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Angera.jpg"/>
          <p:cNvPicPr/>
          <p:nvPr/>
        </p:nvPicPr>
        <p:blipFill>
          <a:blip r:embed="rId3"/>
          <a:stretch/>
        </p:blipFill>
        <p:spPr>
          <a:xfrm>
            <a:off x="1981080" y="137160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New Canvas.jpg"/>
          <p:cNvPicPr/>
          <p:nvPr/>
        </p:nvPicPr>
        <p:blipFill>
          <a:blip r:embed="rId4"/>
          <a:stretch/>
        </p:blipFill>
        <p:spPr>
          <a:xfrm>
            <a:off x="304920" y="609480"/>
            <a:ext cx="1160280" cy="137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New Canvas.jpg"/>
          <p:cNvPicPr/>
          <p:nvPr/>
        </p:nvPicPr>
        <p:blipFill>
          <a:blip r:embed="rId5"/>
          <a:stretch/>
        </p:blipFill>
        <p:spPr>
          <a:xfrm>
            <a:off x="2057400" y="1752480"/>
            <a:ext cx="38412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Angera.jpg"/>
          <p:cNvPicPr/>
          <p:nvPr/>
        </p:nvPicPr>
        <p:blipFill>
          <a:blip r:embed="rId6"/>
          <a:stretch/>
        </p:blipFill>
        <p:spPr>
          <a:xfrm>
            <a:off x="1905120" y="228600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6093000" y="1905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6" descr="Emily.jpg"/>
          <p:cNvPicPr/>
          <p:nvPr/>
        </p:nvPicPr>
        <p:blipFill>
          <a:blip r:embed="rId7"/>
          <a:stretch/>
        </p:blipFill>
        <p:spPr>
          <a:xfrm>
            <a:off x="1828800" y="2819520"/>
            <a:ext cx="533520" cy="49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8" descr="Esume.png"/>
          <p:cNvPicPr/>
          <p:nvPr/>
        </p:nvPicPr>
        <p:blipFill>
          <a:blip r:embed="rId8"/>
          <a:stretch/>
        </p:blipFill>
        <p:spPr>
          <a:xfrm>
            <a:off x="685800" y="4800600"/>
            <a:ext cx="595440" cy="6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Haine Finale.jpg"/>
          <p:cNvPicPr/>
          <p:nvPr/>
        </p:nvPicPr>
        <p:blipFill>
          <a:blip r:embed="rId9"/>
          <a:stretch/>
        </p:blipFill>
        <p:spPr>
          <a:xfrm>
            <a:off x="1143000" y="5715000"/>
            <a:ext cx="64152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0" descr="Rufi.jpg"/>
          <p:cNvPicPr/>
          <p:nvPr/>
        </p:nvPicPr>
        <p:blipFill>
          <a:blip r:embed="rId10"/>
          <a:stretch/>
        </p:blipFill>
        <p:spPr>
          <a:xfrm>
            <a:off x="0" y="5715000"/>
            <a:ext cx="63648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9" descr="Haine Finale.jpg"/>
          <p:cNvPicPr/>
          <p:nvPr/>
        </p:nvPicPr>
        <p:blipFill>
          <a:blip r:embed="rId11"/>
          <a:stretch/>
        </p:blipFill>
        <p:spPr>
          <a:xfrm>
            <a:off x="1981080" y="3276720"/>
            <a:ext cx="533520" cy="479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2514600" y="327672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la, Yo uso maradores, Ellas son estudientes? (Points to Angera and Emiri). Desayuno es huevos, y muschos dulces. ¿ Donde estan nuestros proyectos? Adiós, Yo estoy ocupado!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133720" y="5181480"/>
            <a:ext cx="6858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86000" y="4572000"/>
            <a:ext cx="6477120" cy="228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á amiga! Nuestra tarea es estúpido! Hoy, Yo hago la tarea. Adi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um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2590920" y="5715000"/>
            <a:ext cx="53337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048120" y="5257800"/>
            <a:ext cx="54100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0" descr="Rufi.jpg"/>
          <p:cNvPicPr/>
          <p:nvPr/>
        </p:nvPicPr>
        <p:blipFill>
          <a:blip r:embed="rId12"/>
          <a:stretch/>
        </p:blipFill>
        <p:spPr>
          <a:xfrm>
            <a:off x="2057400" y="3809880"/>
            <a:ext cx="53352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39625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 llamo Rufi!! Como eres tu_ Yo estoy feliz. Yo me siento joven, Nosotros estamos contentas, y nostoros somos jóvenes! Yo aprendo el arte, Yo soy una estudiante en el arte colegio! Hoy, Yo soy escribo un libro. Haha’ , Ustedes quiren Copics_ Tú tiene Copics_ Sus amigas  son simpatica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8" descr="Esume.png"/>
          <p:cNvPicPr/>
          <p:nvPr/>
        </p:nvPicPr>
        <p:blipFill>
          <a:blip r:embed="rId13"/>
          <a:stretch/>
        </p:blipFill>
        <p:spPr>
          <a:xfrm>
            <a:off x="1905120" y="4419720"/>
            <a:ext cx="4572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002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057400" y="6858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895480" y="6858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3657600" y="6858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419720" y="6858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1828800" y="990720"/>
            <a:ext cx="6019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7"/>
          <p:cNvSpPr/>
          <p:nvPr/>
        </p:nvSpPr>
        <p:spPr>
          <a:xfrm>
            <a:off x="2362320" y="2286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2362320" y="2666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4"/>
          <p:cNvSpPr/>
          <p:nvPr/>
        </p:nvSpPr>
        <p:spPr>
          <a:xfrm>
            <a:off x="0" y="6324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6"/>
          <p:cNvSpPr/>
          <p:nvPr/>
        </p:nvSpPr>
        <p:spPr>
          <a:xfrm flipH="1">
            <a:off x="121932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362320" y="228600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ontento y aburrido!! Yo estoy alta! Mis piernas mucho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590920" y="190512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514600" y="1447920"/>
            <a:ext cx="3886200" cy="3045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286000" y="28195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Cua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2 day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590920" y="32767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590920" y="3886200"/>
            <a:ext cx="53337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6"/>
          <p:cNvSpPr/>
          <p:nvPr/>
        </p:nvSpPr>
        <p:spPr>
          <a:xfrm>
            <a:off x="2743200" y="106668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2"/>
          <p:cNvSpPr/>
          <p:nvPr/>
        </p:nvSpPr>
        <p:spPr>
          <a:xfrm>
            <a:off x="122328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6" descr="Emily.jpg"/>
          <p:cNvPicPr/>
          <p:nvPr/>
        </p:nvPicPr>
        <p:blipFill>
          <a:blip r:embed="rId1"/>
          <a:stretch/>
        </p:blipFill>
        <p:spPr>
          <a:xfrm>
            <a:off x="1295280" y="4780080"/>
            <a:ext cx="685800" cy="63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7" descr="Angera.jpg"/>
          <p:cNvPicPr/>
          <p:nvPr/>
        </p:nvPicPr>
        <p:blipFill>
          <a:blip r:embed="rId2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9" descr="Angera.jpg"/>
          <p:cNvPicPr/>
          <p:nvPr/>
        </p:nvPicPr>
        <p:blipFill>
          <a:blip r:embed="rId3"/>
          <a:stretch/>
        </p:blipFill>
        <p:spPr>
          <a:xfrm>
            <a:off x="1981080" y="137160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0" descr="New Canvas.jpg"/>
          <p:cNvPicPr/>
          <p:nvPr/>
        </p:nvPicPr>
        <p:blipFill>
          <a:blip r:embed="rId4"/>
          <a:stretch/>
        </p:blipFill>
        <p:spPr>
          <a:xfrm>
            <a:off x="304920" y="609480"/>
            <a:ext cx="1160280" cy="1376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1" descr="New Canvas.jpg"/>
          <p:cNvPicPr/>
          <p:nvPr/>
        </p:nvPicPr>
        <p:blipFill>
          <a:blip r:embed="rId5"/>
          <a:stretch/>
        </p:blipFill>
        <p:spPr>
          <a:xfrm>
            <a:off x="2133720" y="1828800"/>
            <a:ext cx="384120" cy="463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3" descr="Angera.jpg"/>
          <p:cNvPicPr/>
          <p:nvPr/>
        </p:nvPicPr>
        <p:blipFill>
          <a:blip r:embed="rId6"/>
          <a:stretch/>
        </p:blipFill>
        <p:spPr>
          <a:xfrm>
            <a:off x="1905120" y="228600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6093000" y="1905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6" descr="Emily.jpg"/>
          <p:cNvPicPr/>
          <p:nvPr/>
        </p:nvPicPr>
        <p:blipFill>
          <a:blip r:embed="rId7"/>
          <a:stretch/>
        </p:blipFill>
        <p:spPr>
          <a:xfrm>
            <a:off x="1828800" y="2819520"/>
            <a:ext cx="533520" cy="49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8" descr="Esume.png"/>
          <p:cNvPicPr/>
          <p:nvPr/>
        </p:nvPicPr>
        <p:blipFill>
          <a:blip r:embed="rId8"/>
          <a:stretch/>
        </p:blipFill>
        <p:spPr>
          <a:xfrm>
            <a:off x="685800" y="4800600"/>
            <a:ext cx="595440" cy="63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9" descr="Haine Finale.jpg"/>
          <p:cNvPicPr/>
          <p:nvPr/>
        </p:nvPicPr>
        <p:blipFill>
          <a:blip r:embed="rId9"/>
          <a:stretch/>
        </p:blipFill>
        <p:spPr>
          <a:xfrm>
            <a:off x="1143000" y="5715000"/>
            <a:ext cx="64152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0" descr="Rufi.jpg"/>
          <p:cNvPicPr/>
          <p:nvPr/>
        </p:nvPicPr>
        <p:blipFill>
          <a:blip r:embed="rId10"/>
          <a:stretch/>
        </p:blipFill>
        <p:spPr>
          <a:xfrm>
            <a:off x="0" y="5715000"/>
            <a:ext cx="636480" cy="662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9" descr="Haine Finale.jpg"/>
          <p:cNvPicPr/>
          <p:nvPr/>
        </p:nvPicPr>
        <p:blipFill>
          <a:blip r:embed="rId11"/>
          <a:stretch/>
        </p:blipFill>
        <p:spPr>
          <a:xfrm>
            <a:off x="1981080" y="3276720"/>
            <a:ext cx="533520" cy="4791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34290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514600" y="327672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la, Yo uso maradores, Ellas son estudientes? (Points to Angera and Emiri). Desayuno es huevos, y muschos dulces. ¿ Donde estan nuestros proyectos? Adiós, Yo estoy ocupado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19Z</dcterms:modified>
  <cp:revision>121</cp:revision>
  <dc:subject/>
  <dc:title>Profile</dc:title>
</cp:coreProperties>
</file>